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jeop.wav" ContentType="audio/x-wav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51F-38F7-4200-AFFB-86C52E6C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707-319C-4CDC-A458-7E2179D2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DD8-E9CC-46E9-B18A-E7D0A791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5D2D-32B1-4001-84AF-9E932FA2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3D4C-8612-489F-91D4-7F7D4797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7D29-39E7-4BAD-86CF-FA8F0736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E931-6A46-4A9F-B6ED-5169FB20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58FA-DA5B-4596-9742-D192BEA9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2DBC-6D44-4ADB-8978-690789F0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DE9E-47BC-443F-9788-7CD06588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90E5-25BD-42AA-8493-74B71346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DCA-CA54-4FD9-9AD7-8338F6F7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5669-B9D4-4E50-A5B2-C096E4DF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8CE7-842C-4E97-AEE6-69BE5720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2FF5-C893-4098-B506-689C29F7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1276-237B-4A46-AB05-767A7F79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C97C-0D42-4655-A480-131E8C6F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F6EF-8959-4E0B-A732-A0725BFF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F84-F071-4DF8-BAA9-7138E415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FF8-17FB-4481-8FC0-5DE63BD1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6EA-5A57-4F91-8D36-E4704B3E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F1A-14A1-444A-A13D-4CA5F088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5D0-E74C-49BB-B43C-A1A93E72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A9F0-D73D-4766-90C9-6BEC6E12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2312-39B7-4C3C-B88C-897EE2C2C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F3BF-ED93-4F04-9A15-59608C369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4.xml"/><Relationship Id="rId9" Type="http://schemas.openxmlformats.org/officeDocument/2006/relationships/slide" Target="slide38.xml"/><Relationship Id="rId10" Type="http://schemas.openxmlformats.org/officeDocument/2006/relationships/slide" Target="slide26.xml"/><Relationship Id="rId11" Type="http://schemas.openxmlformats.org/officeDocument/2006/relationships/slide" Target="slide50.xml"/><Relationship Id="rId12" Type="http://schemas.openxmlformats.org/officeDocument/2006/relationships/slide" Target="slide16.xml"/><Relationship Id="rId13" Type="http://schemas.openxmlformats.org/officeDocument/2006/relationships/slide" Target="slide28.xml"/><Relationship Id="rId14" Type="http://schemas.openxmlformats.org/officeDocument/2006/relationships/slide" Target="slide40.xml"/><Relationship Id="rId15" Type="http://schemas.openxmlformats.org/officeDocument/2006/relationships/slide" Target="slide52.xml"/><Relationship Id="rId16" Type="http://schemas.openxmlformats.org/officeDocument/2006/relationships/slide" Target="slide18.xml"/><Relationship Id="rId17" Type="http://schemas.openxmlformats.org/officeDocument/2006/relationships/slide" Target="slide30.xml"/><Relationship Id="rId18" Type="http://schemas.openxmlformats.org/officeDocument/2006/relationships/slide" Target="slide42.xml"/><Relationship Id="rId19" Type="http://schemas.openxmlformats.org/officeDocument/2006/relationships/slide" Target="slide54.xml"/><Relationship Id="rId20" Type="http://schemas.openxmlformats.org/officeDocument/2006/relationships/slide" Target="slide20.xml"/><Relationship Id="rId21" Type="http://schemas.openxmlformats.org/officeDocument/2006/relationships/slide" Target="slide32.xml"/><Relationship Id="rId22" Type="http://schemas.openxmlformats.org/officeDocument/2006/relationships/slide" Target="slide44.xml"/><Relationship Id="rId23" Type="http://schemas.openxmlformats.org/officeDocument/2006/relationships/slide" Target="slide56.xml"/><Relationship Id="rId24" Type="http://schemas.openxmlformats.org/officeDocument/2006/relationships/slide" Target="slide22.xml"/><Relationship Id="rId25" Type="http://schemas.openxmlformats.org/officeDocument/2006/relationships/slide" Target="slide34.xml"/><Relationship Id="rId26" Type="http://schemas.openxmlformats.org/officeDocument/2006/relationships/slide" Target="slide46.xml"/><Relationship Id="rId27" Type="http://schemas.openxmlformats.org/officeDocument/2006/relationships/slide" Target="slide58.xml"/><Relationship Id="rId28" Type="http://schemas.openxmlformats.org/officeDocument/2006/relationships/image" Target="../media/image2.jpeg"/><Relationship Id="rId29" Type="http://schemas.openxmlformats.org/officeDocument/2006/relationships/image" Target="../media/image3.jpeg"/><Relationship Id="rId30" Type="http://schemas.openxmlformats.org/officeDocument/2006/relationships/image" Target="../media/image4.jpeg"/><Relationship Id="rId31" Type="http://schemas.openxmlformats.org/officeDocument/2006/relationships/image" Target="../media/image5.jpeg"/><Relationship Id="rId32" Type="http://schemas.openxmlformats.org/officeDocument/2006/relationships/image" Target="../media/image6.jpeg"/><Relationship Id="rId33" Type="http://schemas.openxmlformats.org/officeDocument/2006/relationships/audio" Target="../media/jeop.wav"/><Relationship Id="rId3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Double 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8240" y="1535040"/>
          <a:ext cx="768204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535040"/>
                    <a:ext cx="76820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6560" y="4648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656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648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464832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648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648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88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8"/>
          <a:stretch/>
        </p:blipFill>
        <p:spPr>
          <a:xfrm>
            <a:off x="838080" y="114300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9"/>
          <a:stretch/>
        </p:blipFill>
        <p:spPr>
          <a:xfrm>
            <a:off x="236232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0"/>
          <a:stretch/>
        </p:blipFill>
        <p:spPr>
          <a:xfrm>
            <a:off x="388620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1"/>
          <a:stretch/>
        </p:blipFill>
        <p:spPr>
          <a:xfrm>
            <a:off x="541008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2"/>
          <a:stretch/>
        </p:blipFill>
        <p:spPr>
          <a:xfrm>
            <a:off x="6934320" y="1143000"/>
            <a:ext cx="1527120" cy="1143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92880" y="6095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3080" y="6095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40640" y="6095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4880" y="61722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2440" y="5867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892880" y="31687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891800" y="316872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manes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significance of this chu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Romanes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ajor pilgrimage church because of the remains of St. Mary Magdal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ning of a major pilgrimage trail that ends at Santiago de Compost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095880" y="369576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4320" y="3168720"/>
            <a:ext cx="59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92160" y="3168720"/>
            <a:ext cx="30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st Jud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93600" y="31687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it loc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93240" y="3168720"/>
            <a:ext cx="47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utun Cathedral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st Façade Tympanu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2880" y="31687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891800" y="316872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manes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92880" y="3168720"/>
            <a:ext cx="61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church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93240" y="3168720"/>
            <a:ext cx="37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dat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90720" y="316872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120-113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91440" y="316872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selbert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it sh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ages of the apocalyp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095880" y="369576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94320" y="3168720"/>
            <a:ext cx="59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070640" y="3124080"/>
            <a:ext cx="75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. John the Evangelist from the Gosp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ok of Abbot Wedric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893240" y="3168720"/>
            <a:ext cx="42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was it cre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891440" y="316872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vesnes, Eng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92160" y="316872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. Madele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892880" y="31687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891800" y="316872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manes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893240" y="3168720"/>
            <a:ext cx="33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890720" y="3168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14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892880" y="3168720"/>
            <a:ext cx="59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St. John the Evangel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892160" y="3168720"/>
            <a:ext cx="649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upposed writer of the Gosp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ok of St. Joh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symbols located on the 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d- The hand reaching 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ly Spirit- D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bot Wedricus- shown giving St. John the ink to write his gosp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. John- Ea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095880" y="369576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894320" y="3168720"/>
            <a:ext cx="59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91800" y="3168720"/>
            <a:ext cx="533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y Foretold of Her Dea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93600" y="31687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it loc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893240" y="3168720"/>
            <a:ext cx="47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is image fro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891440" y="3168720"/>
            <a:ext cx="34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aesta Pan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893240" y="3168720"/>
            <a:ext cx="46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it created fo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893240" y="3168720"/>
            <a:ext cx="39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iena Cathed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92160" y="3168720"/>
            <a:ext cx="37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891440" y="31687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cc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994680" y="3124080"/>
            <a:ext cx="71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was the Maesta Panel So Lar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892880" y="3168720"/>
            <a:ext cx="629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 room for a fresco cycle ins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iena Cathedral because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lls were mar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signficance of the Mae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sided containing the life of Christ and the Life of the Vir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the patron saints of Si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ed the most important panel painted in Ita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095880" y="369576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892160" y="316872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zelay, F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894680" y="3168720"/>
            <a:ext cx="565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titl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884240" y="3219480"/>
            <a:ext cx="46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 of Christ- La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893960" y="3168720"/>
            <a:ext cx="43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cation (include cit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892880" y="3168720"/>
            <a:ext cx="50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na Chapel, Padua Ita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893960" y="3168720"/>
            <a:ext cx="46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time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891440" y="31687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th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893240" y="3168720"/>
            <a:ext cx="37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dat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890720" y="316872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304-130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891440" y="316872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ot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894680" y="3168720"/>
            <a:ext cx="54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relics are located he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as it buil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tone for the sin of usury committed by Scrovegni’s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095880" y="369576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86080" y="2133720"/>
            <a:ext cx="2571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nze Do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rence Bapt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th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330-133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lt Bron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rea Pis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t Wax- technique using wax molds to make a large scale bronze pi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the life of St. John the Bapt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4 scenes in each do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375200" y="312408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emains of St. Mary Magdal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895040" y="3168720"/>
            <a:ext cx="59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mportant historical ev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s started he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892160" y="316872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hird Crus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Ed Center RLASD</cp:lastModifiedBy>
  <dcterms:modified xsi:type="dcterms:W3CDTF">2010-04-12T16:56:46Z</dcterms:modified>
  <cp:revision>18</cp:revision>
  <dc:subject/>
  <dc:title>Jeopardy</dc:title>
</cp:coreProperties>
</file>